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7.wmf" ContentType="image/x-wmf"/>
  <Override PartName="/ppt/media/image8.png" ContentType="image/png"/>
  <Override PartName="/ppt/media/image9.wmf" ContentType="image/x-wmf"/>
  <Override PartName="/ppt/media/image11.wmf" ContentType="image/x-wmf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D3BD62-E205-4EDD-AE7F-F82E8FDAE15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ADBB6F-1BA2-4E5F-8C19-F71D78F28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792F88-2F9F-49F4-89B5-DA8D627BC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ACAF94-1ABD-4173-9382-5413D8C248C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F9F78D-8E87-4616-85FE-31847E378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BD5158-3810-426F-AA26-CC6795BCE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ECEECC-FF43-457C-A1BC-71D5D7D70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4B727F-7995-4135-BA84-C57CF43D2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9E5D74-6735-4246-A29E-719D93198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73CE5D-4A5B-40D7-A9A3-919C7C81F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10D878-B459-49C9-9893-49651DD3C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56F9DB-297B-427B-8C7D-F2942DC7F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62198-2884-4D1E-AE1E-3BB972387048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2160"/>
              <a:ext cx="9115560" cy="1815480"/>
              <a:chOff x="28440" y="5042160"/>
              <a:chExt cx="9115560" cy="18154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2160"/>
                <a:ext cx="9115560" cy="1815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216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2360" y="2205000"/>
            <a:ext cx="3456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第三章 </a:t>
            </a: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康复护理评价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标题 1"/>
          <p:cNvSpPr/>
          <p:nvPr/>
        </p:nvSpPr>
        <p:spPr>
          <a:xfrm>
            <a:off x="1044720" y="4438800"/>
            <a:ext cx="73436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        </a:t>
            </a:r>
            <a:r>
              <a:rPr b="1" lang="zh-CN" sz="4000" spc="-1" strike="noStrike">
                <a:solidFill>
                  <a:srgbClr val="fe230c"/>
                </a:solidFill>
                <a:latin typeface="Tahoma"/>
              </a:rPr>
              <a:t>第</a:t>
            </a:r>
            <a:r>
              <a:rPr b="1" lang="zh-CN" sz="4000" spc="-1" strike="noStrike">
                <a:solidFill>
                  <a:srgbClr val="fe230c"/>
                </a:solidFill>
                <a:latin typeface="Tahoma"/>
                <a:ea typeface="宋体"/>
              </a:rPr>
              <a:t>六</a:t>
            </a:r>
            <a:r>
              <a:rPr b="1" lang="zh-CN" sz="4000" spc="-1" strike="noStrike">
                <a:solidFill>
                  <a:srgbClr val="fe230c"/>
                </a:solidFill>
                <a:latin typeface="Tahoma"/>
              </a:rPr>
              <a:t>节  </a:t>
            </a:r>
            <a:r>
              <a:rPr b="1" lang="zh-CN" sz="4000" spc="-1" strike="noStrike">
                <a:solidFill>
                  <a:srgbClr val="fe230c"/>
                </a:solidFill>
                <a:latin typeface="Tahoma"/>
                <a:ea typeface="宋体"/>
              </a:rPr>
              <a:t>心理</a:t>
            </a:r>
            <a:r>
              <a:rPr b="1" lang="zh-CN" sz="4000" spc="-1" strike="noStrike">
                <a:solidFill>
                  <a:srgbClr val="fe230c"/>
                </a:solidFill>
                <a:latin typeface="Tahoma"/>
              </a:rPr>
              <a:t>评定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3" name=""/>
          <p:cNvGraphicFramePr/>
          <p:nvPr/>
        </p:nvGraphicFramePr>
        <p:xfrm>
          <a:off x="1262160" y="1054080"/>
          <a:ext cx="5902200" cy="5529240"/>
        </p:xfrm>
        <a:graphic>
          <a:graphicData uri="http://schemas.openxmlformats.org/drawingml/2006/table">
            <a:tbl>
              <a:tblPr/>
              <a:tblGrid>
                <a:gridCol w="3095640"/>
                <a:gridCol w="2806560"/>
              </a:tblGrid>
              <a:tr h="1555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测试名称和内容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所测能力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8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1.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言语测试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 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（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1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）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知识：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29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个题目，每一正确记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，最高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29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，包括历史、地理、天文等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知识广度和远事记忆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（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2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）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领悟：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4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个题目，根据回答的概括水平和质量计分，有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、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和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，最高为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28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。分涉及社会风俗、价值观、成语等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社会适应能力，尤其是对伦理道德的判断能力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（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3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）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算术：共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4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道算，正确计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，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1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4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题在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0s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内正确算出加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，最高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8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对数的概念和操作（加、减、乘、除）能力及心算能力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1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相似性：有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3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个项目，根据回答的概括水平计分，有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、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、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种，最高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26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抽象和概括能力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9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（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4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）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数字广度：要求顺背和倒背数字，顺背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2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位数，倒背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0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位数，均以成功背出的最高位数计分，如成功背出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8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位数则计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8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，顺背最高为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2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，倒背最高为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0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瞬时记忆或短时记忆和注意力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58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（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5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）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词汇：共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40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个词，要求被测试者按主试者所读词，在词表上指出相对应的词并解释相应词义，如粮食、疲劳，按回答质量计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、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、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，最高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80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词语理解和表达词意的能力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7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2.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操作测验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 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08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（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1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）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数字符号：与符号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-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数字模式测验相似，要求被测试者根据数字填充相应符号，观察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90s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内能填符号的多少，正确计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，倒转符合计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0.5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，开始有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0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个练习的样题不计时、不计分。最高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90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。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手眼协调能力、学习和书写速度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2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（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2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）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图画填充：共有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21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张图片，每张所画的东西均缺一重要部位，要求找出缺失的是什么，正确计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，共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21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。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视觉记忆和视觉空间的理解能力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（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3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）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木块图：要求患者用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9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块红白两色的立方体积木块摆出样本图案，正确计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4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。图案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6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要求在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60s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完成，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7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0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在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20s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内完成，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7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0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提前完成可加分，最高计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48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。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视觉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-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空间的分析和视觉综合能力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9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（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4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）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图片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排列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：共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8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套图片，每套由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6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张图片组成。将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套图片打乱顺序，要求被试者排出正确顺序，并能说明一个故事，每套在规定时间正确完成计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4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，从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6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套起，提前完成有奖励分，最高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38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。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处理局部和整体关系的能力、思维灵活性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7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（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5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）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图形拼凑：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将物体碎片还原。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由不同复杂程度和难度的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4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个图片碎片组成。迅速将其呈现给被测试者，要求组成完整的实物图片。人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体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形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状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及侧面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人头像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要求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20s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内完成，分别可得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和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，手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型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和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大象图形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要在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80s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内完成，分别可得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7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和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8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，提前完成可加分，最高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44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。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手眼协调能力、想象力及抓住事物线索的能力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4" name="Text Box 103"/>
          <p:cNvSpPr/>
          <p:nvPr/>
        </p:nvSpPr>
        <p:spPr>
          <a:xfrm>
            <a:off x="4213080" y="333360"/>
            <a:ext cx="460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宋体"/>
              </a:rPr>
              <a:t>韦氏成人智力量表（</a:t>
            </a:r>
            <a:r>
              <a:rPr b="1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Wechsler Adult Intelligence Scale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，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宋体"/>
              </a:rPr>
              <a:t>WAIS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宋体"/>
              </a:rPr>
              <a:t>）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106" descr=""/>
          <p:cNvPicPr/>
          <p:nvPr/>
        </p:nvPicPr>
        <p:blipFill>
          <a:blip r:embed="rId1"/>
          <a:stretch/>
        </p:blipFill>
        <p:spPr>
          <a:xfrm>
            <a:off x="179280" y="1125360"/>
            <a:ext cx="8713800" cy="4648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324000" y="1844280"/>
            <a:ext cx="8610480" cy="270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华文新魏"/>
              </a:rPr>
              <a:t>情绪是指人对客观事物是否符合人的需要产生的一种反应。情绪状态有积极与消极之分。临床上常出现的消极情绪是焦虑和抑郁。焦虑是指对刺激产生严重的、不适当的、长时间的焦急、恐惧和忧虑反映的情绪异常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1392480" y="1197000"/>
            <a:ext cx="170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0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. </a:t>
            </a:r>
            <a:r>
              <a:rPr b="0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情绪测验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. 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焦虑评定量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汉密顿焦虑评定量表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Hamilton anxiety scale, HAMA)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：英国学者汉密尔顿于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959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年编制的一种医生常用的焦虑测验量表，是他评量表。目前在我国常用的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HAMA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是由汤毓华于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98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年翻译引进的。该量表能很好地衡量治疗效果，一致性好，长度适中、简便易行，用于测量患者的焦虑程度及焦虑症。该量表共有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个项目，分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0~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级，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0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无焦虑，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轻度焦虑，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中度焦虑，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重度焦虑，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极重度焦虑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"/>
          <p:cNvPicPr/>
          <p:nvPr/>
        </p:nvPicPr>
        <p:blipFill>
          <a:blip r:embed="rId1"/>
          <a:stretch/>
        </p:blipFill>
        <p:spPr>
          <a:xfrm>
            <a:off x="1187280" y="1125360"/>
            <a:ext cx="6193080" cy="539928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3"/>
          <p:cNvSpPr/>
          <p:nvPr/>
        </p:nvSpPr>
        <p:spPr>
          <a:xfrm>
            <a:off x="6005160" y="40464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汉密顿焦虑评定量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39" descr=""/>
          <p:cNvPicPr/>
          <p:nvPr/>
        </p:nvPicPr>
        <p:blipFill>
          <a:blip r:embed="rId1"/>
          <a:stretch/>
        </p:blipFill>
        <p:spPr>
          <a:xfrm>
            <a:off x="396720" y="1044720"/>
            <a:ext cx="8315640" cy="573408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3"/>
          <p:cNvSpPr/>
          <p:nvPr/>
        </p:nvSpPr>
        <p:spPr>
          <a:xfrm>
            <a:off x="3708360" y="333360"/>
            <a:ext cx="5079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宋体"/>
              </a:rPr>
              <a:t>抑郁自评量表（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宋体"/>
              </a:rPr>
              <a:t>Zung self-rating depression scale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，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宋体"/>
              </a:rPr>
              <a:t>SDS)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20" descr=""/>
          <p:cNvPicPr/>
          <p:nvPr/>
        </p:nvPicPr>
        <p:blipFill>
          <a:blip r:embed="rId1"/>
          <a:stretch/>
        </p:blipFill>
        <p:spPr>
          <a:xfrm>
            <a:off x="468360" y="1054080"/>
            <a:ext cx="7632720" cy="573408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3"/>
          <p:cNvSpPr/>
          <p:nvPr/>
        </p:nvSpPr>
        <p:spPr>
          <a:xfrm>
            <a:off x="2917800" y="404640"/>
            <a:ext cx="604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宋体"/>
              </a:rPr>
              <a:t>焦虑自评量表（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宋体"/>
              </a:rPr>
              <a:t>Zung self-rating anxiety scale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，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宋体"/>
              </a:rPr>
              <a:t>SAS)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200" descr=""/>
          <p:cNvPicPr/>
          <p:nvPr/>
        </p:nvPicPr>
        <p:blipFill>
          <a:blip r:embed="rId1"/>
          <a:stretch/>
        </p:blipFill>
        <p:spPr>
          <a:xfrm>
            <a:off x="1187280" y="1270080"/>
            <a:ext cx="5832720" cy="534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900000" y="1915920"/>
            <a:ext cx="7407360" cy="266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.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人格测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人格又称个性，指个体在适应社会的成长过程中，经环境和遗传的交互作用形成的稳定而独特的心理特征。包括性格、气质、能力等。人格测验是对人格特点的描述和揭示，即测量个体在一定情境下经常表现出来的典型行为和情感反应，通常包括气质或性格类型的特点、人际关系、情绪状态、动机、兴趣和态度等内容。目前采用的人格测验方法有多种，最常用的为投射法和问卷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临床常用的人格自陈量表有明尼苏达多项人格调查、艾森克人格问卷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EPQ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等，常用的投射法测验有罗夏墨迹测验和文字联想测验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844360" y="333000"/>
            <a:ext cx="53672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629080" y="1774800"/>
            <a:ext cx="4248000" cy="25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概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评价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36720" y="2421000"/>
            <a:ext cx="688680" cy="593280"/>
            <a:chOff x="1836720" y="2421000"/>
            <a:chExt cx="688680" cy="593280"/>
          </a:xfrm>
        </p:grpSpPr>
        <p:sp>
          <p:nvSpPr>
            <p:cNvPr id="109" name="AutoShape 5"/>
            <p:cNvSpPr/>
            <p:nvPr/>
          </p:nvSpPr>
          <p:spPr>
            <a:xfrm>
              <a:off x="1842120" y="2430720"/>
              <a:ext cx="683280" cy="583560"/>
            </a:xfrm>
            <a:prstGeom prst="hexagon">
              <a:avLst>
                <a:gd name="adj" fmla="val 29272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36720" y="2421000"/>
              <a:ext cx="683280" cy="583560"/>
            </a:xfrm>
            <a:prstGeom prst="hexagon">
              <a:avLst>
                <a:gd name="adj" fmla="val 29272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76680" y="2455920"/>
              <a:ext cx="600480" cy="513000"/>
            </a:xfrm>
            <a:prstGeom prst="hexagon">
              <a:avLst>
                <a:gd name="adj" fmla="val 29263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2061360" y="249408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36720" y="3286080"/>
            <a:ext cx="687240" cy="593640"/>
          </a:xfrm>
          <a:prstGeom prst="hexagon">
            <a:avLst>
              <a:gd name="adj" fmla="val 28942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79640" y="335772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Text Box 10"/>
          <p:cNvSpPr/>
          <p:nvPr/>
        </p:nvSpPr>
        <p:spPr>
          <a:xfrm>
            <a:off x="1979640" y="422100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 Box 10"/>
          <p:cNvSpPr/>
          <p:nvPr/>
        </p:nvSpPr>
        <p:spPr>
          <a:xfrm>
            <a:off x="2052720" y="494172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艾森克人格问卷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EPQ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是国际公认的、也是临床上常用的人格测验工具，分为成人版（适用于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6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岁以上成人）和儿童版（适用于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7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～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5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岁儿童）。在我国修订的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EPQ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中有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88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个问题，被试者根据自己看完问题后的最初想法回答“是”或“否”，然后由评定者对其分别评分，再根据受试者的年龄、性别，诊断出其人格特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艾森克人格问卷（</a:t>
            </a:r>
            <a:r>
              <a:rPr b="0" lang="en-US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EPQ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0" name="Picture 3" descr=""/>
          <p:cNvPicPr/>
          <p:nvPr/>
        </p:nvPicPr>
        <p:blipFill>
          <a:blip r:embed="rId1"/>
          <a:stretch/>
        </p:blipFill>
        <p:spPr>
          <a:xfrm>
            <a:off x="612720" y="1341360"/>
            <a:ext cx="773280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C8AB0-E3ED-4B05-9403-8DCC4A35991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612720" y="1413000"/>
            <a:ext cx="8064720" cy="37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ts val="3574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识记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5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．陈述心理评定的定义及目的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5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．列举心理评定的常用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574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理解：比较心理评定的临床表现及评价内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574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运用：应用心理评价方法为心理障碍的患者进行评价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394920" y="1557360"/>
            <a:ext cx="8280360" cy="50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d1496"/>
                </a:solidFill>
                <a:latin typeface="华文新魏"/>
                <a:ea typeface="华文新魏"/>
              </a:rPr>
              <a:t>(</a:t>
            </a:r>
            <a:r>
              <a:rPr b="1" lang="zh-CN" sz="36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一</a:t>
            </a:r>
            <a:r>
              <a:rPr b="1" lang="en-US" sz="3600" spc="-1" strike="noStrike">
                <a:solidFill>
                  <a:srgbClr val="1d1496"/>
                </a:solidFill>
                <a:latin typeface="华文新魏"/>
                <a:ea typeface="华文新魏"/>
              </a:rPr>
              <a:t>) </a:t>
            </a:r>
            <a:r>
              <a:rPr b="1" lang="zh-CN" sz="3600" spc="-1" strike="noStrike">
                <a:solidFill>
                  <a:srgbClr val="1d1496"/>
                </a:solidFill>
                <a:latin typeface="华文新魏"/>
                <a:ea typeface="华文新魏"/>
              </a:rPr>
              <a:t>定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ac8de"/>
                </a:solidFill>
                <a:latin typeface="华文新魏"/>
                <a:ea typeface="华文新魏"/>
              </a:rPr>
              <a:t>         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心理评定（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psychological assessment)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是指利用心理测验、观察、描述、调查、评定等，对人的各种心理特征进行量化概括和推断，做出综合判断的过程。无论急、慢性疾病患者，还是躯体残疾患者，都有不同程度的心理问题，严重影响患者的康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339840"/>
            <a:ext cx="8229600" cy="78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26560" y="2204640"/>
            <a:ext cx="740916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①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通过评估单独或协助做出心理或医学诊断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②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指导制订心理障碍或医学疾病的防治措施，估计心理障碍或医学疾病预后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③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作为判断心理咨询和心理治疗效果的指标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④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为司法鉴定的提供必要的依据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⑤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预测个体未来成就，并作为人力资源部门选拔人才的方法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⑥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作为医护心理学研究的一种重要手段和方法</a:t>
            </a:r>
            <a:r>
              <a:rPr b="1" lang="zh-CN" sz="2800" spc="-1" strike="noStrike">
                <a:solidFill>
                  <a:srgbClr val="8ac8de"/>
                </a:solidFill>
                <a:latin typeface="华文新魏"/>
                <a:ea typeface="华文新魏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7" name="Rectangle 2"/>
          <p:cNvSpPr/>
          <p:nvPr/>
        </p:nvSpPr>
        <p:spPr>
          <a:xfrm>
            <a:off x="324000" y="1197000"/>
            <a:ext cx="822960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二）目的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396360" y="1844280"/>
            <a:ext cx="799164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在康复评定中心理评定占有重要地位。它是对个体某一心理行为所作全面、系统和深入的客观评定与估测。与临床医生和护士根据患者症状、体征和辅助检查结果对患者所作的临床护理诊断相类似，心理评估对于心理咨询和心理治疗的效果具有决定性的影响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1186920" y="1413000"/>
            <a:ext cx="61405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华文新魏"/>
              </a:rPr>
              <a:t>常用的心理测验方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华文新魏"/>
              </a:rPr>
              <a:t>智力测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华文新魏"/>
              </a:rPr>
              <a:t>人格测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华文新魏"/>
              </a:rPr>
              <a:t>情绪测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、智力测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智力（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intelligence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也称智能，是指人认识、理解客观事物并运用知识、经验等解决问题的能力。如观察力、理解力、思维能力、记忆力等。智力测验（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intelligence test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是一种重要的心理测验技术，是通过测验的方式衡量个体智力水平高低的一种科学方法。它不仅能对人的智力水平的高低做出评估，同时在某种程度上反映与患者有关的其他精神病理状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044360" y="1773360"/>
            <a:ext cx="7407000" cy="344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1.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智力测验（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intelligence test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韦克斯勒智力量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斯坦福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-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比内量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贝利婴儿发展量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39640" y="4428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（三）常用心理测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赵欣</cp:lastModifiedBy>
  <dcterms:modified xsi:type="dcterms:W3CDTF">2015-12-15T06:55:56Z</dcterms:modified>
  <cp:revision>1</cp:revision>
  <dc:subject/>
  <dc:title>  第三章  康复护理评价</dc:title>
</cp:coreProperties>
</file>